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F8E0-398A-410C-ACDB-ABF34B16D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ADAF-55C5-41DB-B689-C9BB8D0EA1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5 boxes across and 6 boxes down: total of 30 boxes.  Position: edge of table touches both left and right edge of slide.  Top of table is 1” from top of page and bottom is 1” from bottom of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 of colum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Literary term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Light in the Fores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ocabulary, Test Taking Strategies, and Anything Goes: all in Arial font, size 22 and all centered justified all in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seco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fifth column, $100 - $500 dollar amount: Arial font, size 28 and all centered justified all in orange. All hyperlink to different pages throughout slide show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nal Jeopardy!! In text box, .67”  horizontal and 0” vertical from top left hand corner.  Font: Arial Black 48 point font in yellow-oran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 Jeopard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75” horizontally and 7” vertically from top left hand corner.  Arial font size 24, orange color.  Hyperlink to final Jeopardy page (last page of slide show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838080" y="4114800"/>
            <a:ext cx="5639040" cy="327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914400" y="7467480"/>
            <a:ext cx="5334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earning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organization: 3.4: logically organized text: each piece is chunked into its own category.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ivation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each question gets harder as you go through, therefore, the students start off with the easier information and get a sense of accomplishmen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838080" y="7391520"/>
            <a:ext cx="56390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7634-9B44-4D69-85DA-6B358A8237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7720" y="4343400"/>
            <a:ext cx="5334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1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4267080"/>
            <a:ext cx="563904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838080" y="69343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 Motiv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there is immediate feedback to the students.  Setup in a game format making it more competitive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rcep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the rate of instruction is slow enough for students to determine the answer, yet quick enough so that they do not lose their focus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all objects are aligned: the wording to the left and the picture to the right, based on the last letter or number in the tit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838080" y="6934320"/>
            <a:ext cx="56390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B47B-347F-432C-AB1A-A1FC92E0D5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2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38080" y="4191120"/>
            <a:ext cx="563904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914400" y="7010280"/>
            <a:ext cx="5562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tiva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sitive Impress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5.2- Text on the page is kept to a minimum so that students wont be overwhelmed. Well organized and familiar with type size, style, etc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adable Style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- Passages are small and to the point. Wording is familiar and comfortable; not over their heads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peti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slides have the same style of text and the same background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ment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wording objects are aligned to the lef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838080" y="6934320"/>
            <a:ext cx="563904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6766-57E3-481A-881E-C5CD136D0B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4E9-1B80-4E93-85B3-9768330D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0F0-5854-4188-8C4D-74E567A7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06E-ABE2-4ECC-B87C-B1CD8C2E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D06-977B-419F-8E6A-14835071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00BC-C311-4A5F-BBF0-525A7B71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1C9E-9577-4B5F-BF6F-9948F910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18F5-DC87-4528-BC2F-EC63421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A1F1-B846-4DA4-8841-1D16C0D5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0DDA-FD56-40C6-BC3D-DF50FBAC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434F-67F1-4AAE-814F-D2A73BA6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5DDD-2BFB-491F-B148-89AAEDEE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A96-6A0E-47DD-A00F-9C727505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9B9B-C42C-4600-9D63-8BF4C65F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594C-5AA1-40E2-BD76-5E7AD67B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A49E-024B-41AD-A83B-976A8771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8988-A139-414A-BF88-52A5D95F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9D0A-E7AB-4F17-8A37-389C6CB4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54B-F11B-4CCD-96B1-5E3C2C09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BF4-FA97-4083-B277-2EA43E67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C05-2E88-4645-9A64-20E91E82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1CB-6593-442C-B60E-8362F89A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160-C5A5-433F-B704-AA845AA3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30E-DF75-4F83-B9A9-39BFEE9B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F70-DE67-4168-BE38-297AF27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97A1-A509-464A-BE94-B04EC0A1E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80B7-C581-47E3-9975-8DA015B104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JEOPARD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14400"/>
          <a:ext cx="9144000" cy="5062680"/>
        </p:xfrm>
        <a:graphic>
          <a:graphicData uri="http://schemas.openxmlformats.org/drawingml/2006/table">
            <a:tbl>
              <a:tblPr/>
              <a:tblGrid>
                <a:gridCol w="1844640"/>
                <a:gridCol w="1924200"/>
                <a:gridCol w="1717560"/>
                <a:gridCol w="1843200"/>
                <a:gridCol w="1814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dford His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uth Amer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urope/Russ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133"/>
          <p:cNvSpPr/>
          <p:nvPr/>
        </p:nvSpPr>
        <p:spPr>
          <a:xfrm>
            <a:off x="342900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8d43"/>
                </a:solidFill>
                <a:uFillTx/>
                <a:latin typeface="Arial"/>
                <a:hlinkClick r:id="rId26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ropic cuts across the center of Mexico?  South of this results in warm-weather year r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66680" y="43434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opic of Canc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exico- $4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14400" y="48769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– Yucatan Peninsula; B – Gulf of Mexico; C – Pacific Ocean; D – Mexico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14400" y="434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xico- $500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0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5029200" cy="2595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6"/>
          <p:cNvSpPr/>
          <p:nvPr/>
        </p:nvSpPr>
        <p:spPr>
          <a:xfrm>
            <a:off x="59436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510876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061000" y="4038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426996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871200"/>
            <a:ext cx="7467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edford History- 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. George Washington used to stay at the ESPY House in Bedford.  This is now known as, “Gardeners Candy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95280" y="4876920"/>
            <a:ext cx="51055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156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edford History- $2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orge Washington marched his army to Bedford in 1794 to subdue what?  (British Invasion, French and Indian War, Whiskey Rebell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295280" y="49528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skey Rebell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543800" y="4697280"/>
            <a:ext cx="1600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edford History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reets and alleys that were laid out in Bedford were named Juliana, John, Thomas, and Richard.  They were named after who’s children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066680" y="3809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lliam Pen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dford History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ring what war was Fort Bedford buil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90720" y="419112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rench and Indian Wa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edford History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066680" y="51814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rset, Cambria, Blair, Huntingdon, Ful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772400" y="5005440"/>
            <a:ext cx="1371600" cy="1852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6780240" cy="33530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9"/>
          <p:cNvSpPr/>
          <p:nvPr/>
        </p:nvSpPr>
        <p:spPr>
          <a:xfrm>
            <a:off x="236988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267048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320400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366048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3508560" y="4800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argest country in the world? It is the largest South American count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66680" y="4495680"/>
            <a:ext cx="5943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imes New Roman"/>
              </a:rPr>
              <a:t>Brazil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ame of the world’s largest rodent that lives in Brazil and Venezuela?  (over 100 poun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066680" y="4800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apybar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9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ountains tower over the western part of Argentina?  This mountain range is the longest in the world. (4, 400 miles lo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143000" y="4648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es Mountai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- $3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3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8222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anada 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. Canada has more people than the United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52480" y="3581280"/>
            <a:ext cx="4876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.   Canada has 33 million/ USA has 305 mill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ational dance of Argentina? Also, what South American country is a world leader in oil production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14400" y="46483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ngo/Venezuel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90720" y="8348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- $4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7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219320" y="49528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zil, Paraguay, Uruguay, Argentina, Chile, Bolivia, Peru, Ecu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- $5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919320" cy="3505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urope/ Russia- $1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.  Hockey, figure skating, and gymnastics are the most popular sports in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905120" y="42670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urope/ Russia- $2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ich country can you drive on the fastest highway in the world?  What is this highway known 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066680" y="487692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Germany/ Autobahn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urope/ Russia- $3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time known as when people used machinery and new methods to increase productiv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990720" y="434340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dustrial Revolu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urope/ Russia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ere the three main Greek Gods?  Who was the goddess of wisd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066680" y="4343400"/>
            <a:ext cx="6629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eus, Poseidon, and Had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hena (Wisdom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238880" y="4324320"/>
            <a:ext cx="1905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urope/ Russia- $5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38080" y="49528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aly, Spain, Portugal, France, Germany, Black Sea, Russ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238880" y="432432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3"/>
          <a:stretch/>
        </p:blipFill>
        <p:spPr>
          <a:xfrm>
            <a:off x="1981080" y="1828800"/>
            <a:ext cx="5029200" cy="30481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38937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259416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2133720" y="4114800"/>
            <a:ext cx="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297468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571788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0987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3737160" y="312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nal Jeopar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a thesis statement out of the questions below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"/>
          <p:cNvSpPr/>
          <p:nvPr/>
        </p:nvSpPr>
        <p:spPr>
          <a:xfrm>
            <a:off x="609480" y="350532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True Son was frightened to return to the Butler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74592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anada 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apital city of Canada?  What is the most populous city in Canada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oronto, Ottawa, Quebec City, Vancouv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95280" y="48769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tawa/ Toro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anada 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ada is the ________ largest country in the wor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1600" y="4495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largest behind Russ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281720" y="4343400"/>
            <a:ext cx="1862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anada 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the two official languages of Canada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523880" y="426708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glish and Fren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451640" y="4572000"/>
            <a:ext cx="169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anada-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West to East, list six of the 10 provinces in order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3733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SMOQNNN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620120" y="4800600"/>
            <a:ext cx="1523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exico-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 % of Mexico’s population follow what major relig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95280" y="502920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man Cathol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oes hombre, nina, nino, and Soy anciana mean in Spanis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434340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, girl, boy, and I am ol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exico- $2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id Mexico win its independence from and what holiday is celebrated on May 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371600" y="388620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xico won it’s independence from Spain/ Holiday = Cinco de May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914400" y="49680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exico - $300 (Daily Double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2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1:30:16Z</dcterms:created>
  <dc:creator>Student</dc:creator>
  <dc:description/>
  <dc:language>en-US</dc:language>
  <cp:lastModifiedBy>Tom Otis</cp:lastModifiedBy>
  <dcterms:modified xsi:type="dcterms:W3CDTF">2010-03-16T02:26:57Z</dcterms:modified>
  <cp:revision>90</cp:revision>
  <dc:subject/>
  <dc:title>Jeopardy</dc:title>
</cp:coreProperties>
</file>